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2505-7D01-45B8-BB8D-E8AF1D87C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344-E99C-4093-AB6D-9F5BAAF3D8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791-B888-4110-8A42-3A3573E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052-FFB3-4374-A1F8-E48732CD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14B-83FC-468E-9140-BFCF8CBC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717-736B-42C1-B730-71808C50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916-136A-496A-A800-67F98E8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16A-CBC3-43C8-B842-12196EB2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1C2-5AC9-440D-B7A5-27408701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04E-5FEB-40B9-BFE3-F22BF6A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AC1-1F6E-446F-9C05-850D0F44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49D-E087-4DCB-9F5E-A5A81A5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2AA-4342-48F8-81A3-AE1882B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1BD-3EB9-4074-AB65-CE67551D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604-DB98-4902-A652-107ABF3A0955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Tahoma"/>
              </a:rPr>
              <a:t>«Пациент скорее жив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: маркетинг 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ТВ и нонТВ формат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48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2008/2009 годы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5672160"/>
            <a:ext cx="8569080" cy="106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Сергей Сошин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директор Первого Медицинского Рекламного Агентства «МАРСМЕДИ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КУДА УШЛИ ДЕНЬГИ В 2008 ГОДу (БЕЗ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X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348000" y="37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ТРАТИЛИ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380360" y="1557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5564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16436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on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979640" y="2565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60000"/>
                </a:solidFill>
                <a:latin typeface="Tahoma"/>
                <a:ea typeface="Tahoma"/>
              </a:rPr>
              <a:t>…</a:t>
            </a:r>
            <a:r>
              <a:rPr b="1" lang="en-US" sz="8000" spc="-1" strike="noStrike">
                <a:solidFill>
                  <a:srgbClr val="e60000"/>
                </a:solidFill>
                <a:latin typeface="Tahoma"/>
                <a:ea typeface="Tahoma"/>
              </a:rPr>
              <a:t>’</a:t>
            </a:r>
            <a:r>
              <a:rPr b="1" lang="ru-RU" sz="8000" spc="-1" strike="noStrike">
                <a:solidFill>
                  <a:srgbClr val="e60000"/>
                </a:solidFill>
                <a:latin typeface="Tahoma"/>
                <a:ea typeface="Tahoma"/>
              </a:rPr>
              <a:t>…</a:t>
            </a:r>
            <a:r>
              <a:rPr b="1" lang="en-US" sz="8000" spc="-1" strike="noStrike">
                <a:solidFill>
                  <a:srgbClr val="e60000"/>
                </a:solidFill>
                <a:latin typeface="Tahoma"/>
                <a:ea typeface="Tahoma"/>
              </a:rPr>
              <a:t>’…</a:t>
            </a:r>
            <a:r>
              <a:rPr b="1" lang="ru-RU" sz="8000" spc="-1" strike="noStrike">
                <a:solidFill>
                  <a:srgbClr val="e60000"/>
                </a:solidFill>
                <a:latin typeface="Tahoma"/>
                <a:ea typeface="Tahoma"/>
              </a:rPr>
              <a:t> </a:t>
            </a:r>
            <a:r>
              <a:rPr b="1" lang="en-US" sz="8000" spc="-1" strike="noStrike">
                <a:solidFill>
                  <a:srgbClr val="e60000"/>
                </a:solidFill>
                <a:latin typeface="Tahoma"/>
                <a:ea typeface="Tahoma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91200" y="1700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324000" y="836640"/>
            <a:ext cx="3240000" cy="252108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588000" y="981000"/>
            <a:ext cx="2087640" cy="151128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468360" y="4076640"/>
            <a:ext cx="3024000" cy="244800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6372360" y="4508640"/>
            <a:ext cx="2376360" cy="172872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БЩИЕ ПРОБЛЕММЫ РЫНКА  2009 ГОДа, ДИАГ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1916280"/>
            <a:ext cx="8569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ОКРАЩЕНИЕ ПОТРЕБИТЕЛЬСКОЙ КОРЗ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ЕДОСТАТОЧНОЕ КОЛИЧЕСТВО  ДОСТУПНЫХ КРЕДИТ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ОВЫЕ ПРАВИЛА РАБОТЫ НА МЕДИЙНОМ РЫ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АДЕНИЕ ТЕЛЕСМОР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АДЕНИЕ ВНИМАНИЯ И ДОВЕРИЯ К РЕКЛАМЕ В ЦЕЛ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ТСУТСТВИЕ ПРОФЕССИОНАЛЬНЫХ КАДРОВ В МАРКЕТИН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ЗЛИЧНЫЕ ЦЕЛИ ПРОИЗВОДИТЕЛЕЙ, РА, ОПЕРАТОРОВ МЕД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ТСУТСТВИЕ ОБЪЕКТИВНЫХ ИЗМЕРИТЕЛЬНЫХ ПАН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ЛАБАЯ ПОЗИЦИЯ ОБЩЕСТВЕННЫ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ЕЭТИЧНЫЕ ДЕЙСТВИЯ МНОГИХ ИГРО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ОЗМОЖНЫЕ ИЗМЕНЕНИЯ ЗАКОНА О РЕКЛА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4000" y="692280"/>
            <a:ext cx="8569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Когда у клиента есть хороший медиабюджет, то можно, наверное, продать и валенки папуа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ейчас же нужно продать валенки тем, кто их сам делае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 Лазебник, исполнительный директор Всеукраинской Рекламной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ЗНАЧЕНИЕ КУРС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4005360"/>
            <a:ext cx="87138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ИТЬСЯ СО СТРАТЕГ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ЕЖЕМЕСЯЧНО ПЕРЕСМАТРИВАТЬ ТАКТИКУ, ПОМНИТЬ О ПРОШЛОМ И ПРИМЕНЯТЬ ИНТУИЦИЮ ОСТОРОЖ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СОГЛАСОВАТЬ ДЕЙСТВИЯ ПРОДАВЦОВ И МАРКЕТОЛОГОВ, ДУМАТЬ ПРО ШАХМ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ОВАТЬ СВОИ КОНКУРЕНТН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БАВИТЬСЯ ОТ ВРЕДНЫХ ПРЕВЫЧЕК, СОИЗМЕРЯТЬ ПЛАНЫ И ВОЗМО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УЧАТЬ ИНФОРМАЦИЮ О ВИРУСАХ И ЭПИДЕМИЯХ, БЫТЬ ПОСЛЕДОВАТЕЛЬНЫМ В ДЕЙСТВИЯХ, НЕ СОБЛАЗНЯ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ГОТОВИТЬСЯ К УСПЕХ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11640" y="692280"/>
            <a:ext cx="475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..В нескольких шагах от неё на ветке дерева сидел Чеширский Кот. Кот тоже заметил Алису и улыбнулс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ширский Мурлыка... — заговорила Алиса несмело — она не знала, понравится ли ему такое обращение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т в ответ улыбнулся ещё шире. «Значит, не сердится», — подумала Алиса и продолж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жите, пожалуйста, куда мне отсюда ид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во многом зависит от того, куда ты хочешь прийти, — ответил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а мне почти всё равно, лишь бы попасть куда-нибудь, — пояснила Ал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гда всё равно, куда идти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уда-нибудь ты обязательно попадёшь, — сказал Кот, — конечно, если не остановишься на полпути, никуда не сворачиваться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тематик Льюис Кэррол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лиса в стране чудес”, ГЛАВА ШЕСТ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которой встречаются поросёнок и пер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Alisa_v_strane_chudes late 1.avi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8894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3"/>
          <p:cNvSpPr/>
          <p:nvPr/>
        </p:nvSpPr>
        <p:spPr>
          <a:xfrm>
            <a:off x="3780000" y="981000"/>
            <a:ext cx="2447640" cy="86364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826920" y="2997360"/>
            <a:ext cx="1727280" cy="105408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124000" y="27082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9"/>
          <p:cNvSpPr/>
          <p:nvPr/>
        </p:nvSpPr>
        <p:spPr>
          <a:xfrm>
            <a:off x="4859280" y="3860640"/>
            <a:ext cx="1224000" cy="50328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0"/>
          <p:cNvSpPr/>
          <p:nvPr/>
        </p:nvSpPr>
        <p:spPr>
          <a:xfrm>
            <a:off x="5580000" y="2421000"/>
            <a:ext cx="1368360" cy="122400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6"/>
          <p:cNvSpPr/>
          <p:nvPr/>
        </p:nvSpPr>
        <p:spPr>
          <a:xfrm>
            <a:off x="3132000" y="2781360"/>
            <a:ext cx="1152720" cy="72072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8"/>
          <p:cNvSpPr/>
          <p:nvPr/>
        </p:nvSpPr>
        <p:spPr>
          <a:xfrm>
            <a:off x="2556000" y="3357720"/>
            <a:ext cx="1009440" cy="57600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3924360" y="3284640"/>
            <a:ext cx="1871640" cy="57600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1"/>
          <p:cNvSpPr/>
          <p:nvPr/>
        </p:nvSpPr>
        <p:spPr>
          <a:xfrm>
            <a:off x="5867280" y="1700280"/>
            <a:ext cx="1081080" cy="72072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 rot="385200">
            <a:off x="392040" y="711000"/>
            <a:ext cx="6194520" cy="3817800"/>
          </a:xfrm>
          <a:prstGeom prst="ellipse">
            <a:avLst/>
          </a:prstGeom>
          <a:noFill/>
          <a:ln w="88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ТРЕНДЫ И ДЕНД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55640" y="177336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  <a:ea typeface="Tahoma"/>
              </a:rPr>
              <a:t>П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3357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Д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300720" y="2997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  <a:ea typeface="Tahoma"/>
              </a:rPr>
              <a:t>ТРЭЙ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  <a:ea typeface="Tahoma"/>
              </a:rPr>
              <a:t>МАРКЕ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39640" y="4508640"/>
            <a:ext cx="8209080" cy="22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009 ГОД СТАНЕТ СЛОЖНЫМ ДЛЯ МНОГИХ ИГ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ЛИЧИЕ РЕКЛАМЫ НЕ БУДЕТ ГАРАНТИРОВАТЬ РОСТ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НЕШНЯЯ СЛУЖБА СТАНЕТ НЕ ОЧЕНЬ ПРОДУКТИВ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ИТЕЙЛ БУДЕТ ГОТОВ К СОТРУДНИЧЕСТВУ ПО ЕДИНЫМ СТАНДА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РТЕБИТЕЛЬ ЗАХОЧЕТ РАЦИОНАЛЬНЫХ АРГУМЕНТОВ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ЕМПИНГ МЕДИЙ ПРИВЕДЕТ К СИЛЬНОМУ ШУМУ И НЕ БУДЕТ ВЕЧНЫМ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"/>
          <p:cNvSpPr/>
          <p:nvPr/>
        </p:nvSpPr>
        <p:spPr>
          <a:xfrm>
            <a:off x="179280" y="692280"/>
            <a:ext cx="4248360" cy="3457440"/>
          </a:xfrm>
          <a:prstGeom prst="ellipse">
            <a:avLst/>
          </a:prstGeom>
          <a:noFill/>
          <a:ln w="88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2195640" y="2637000"/>
            <a:ext cx="1008000" cy="614160"/>
          </a:xfrm>
          <a:prstGeom prst="ellipse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5580000" y="1268280"/>
            <a:ext cx="3384720" cy="3168720"/>
          </a:xfrm>
          <a:prstGeom prst="ellipse">
            <a:avLst/>
          </a:prstGeom>
          <a:noFill/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788000" y="3933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ИР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651640" y="2565360"/>
            <a:ext cx="1296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ПЕЦ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3851280" y="1557360"/>
            <a:ext cx="2087640" cy="1800360"/>
          </a:xfrm>
          <a:prstGeom prst="ellipse">
            <a:avLst/>
          </a:prstGeom>
          <a:noFill/>
          <a:ln w="88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356000" y="22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ahoma"/>
                <a:ea typeface="Tahoma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313200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2556000" y="342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Т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4284720" y="33577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5724360" y="184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В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2411280" y="148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ahoma"/>
                <a:ea typeface="Tahoma"/>
              </a:rPr>
              <a:t>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284720" y="112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РЕЦЕП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1125360"/>
            <a:ext cx="8569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ОВАТЬ ТОЛЬКО МАРКЕТИНГ-М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Е ВЕРИТЬ ШАМАНАМ, ПОВЫШАТЬ ПРОФЕСС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ТКАЗАТЬСЯ ОТ ИЗОБРЕТЕНИЙ, ИСПОЛЬЗОВАТЬ СОЗД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ЗАБЫТЬ ПРО ЭМОЦИОНАЛЬНЫЕ КАНАЛЫ, БРАТЬ РАЦ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ЗНАТЬ О ТОМ, ЧТО ИМИДЖ - НИЧТО, ПРОМО –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БРАТИТЬ ВНИМАНИЕ НА ТО, ЧТО ПОНЯТНЕЕ ПОТРЕБИТЕЛ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В (ДЛЯ БЕЗДУМНЫХ И БЕЗДЕНЕЖНЫХ ФОНТО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АРТИЗАНСКИЙ МАРКЕТИНГ 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(ДЛЯ ТЕХ, КТО ДУМАЕТ, ЧТО ОН ДУМА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ТЕРНЕТ (ДЛЯ ТЕХ, КТО ИЩ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ССА (ДЛЯ М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МЕСТА ПРОДАЖ (ДЛЯ ВСЕ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NONtv-Banner-Prototype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ЧТО ТАКО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nT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И ПОЧЕМУ ЭТО ЛУЧШ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203640" y="5084640"/>
            <a:ext cx="3097080" cy="50508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ontv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КАКИЕ ПРЕИМУЩЕСТВА У ТРЕЙД МАРКЕ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17792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АРАНТИРОВАННОЕ МЕСТО НА ПОЛК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ТОЧКЕ ПРОДАЖ, МЕРЧАНДАЙЗ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ЛУЧШЕНИЕ ЛОГИСТИКИ И ОБОРАЧИВАЕМОСТИ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КРАЩЕНИЕ КОСВЕННЫХ ЗАТРАТ НА ПЕРСОНАЛ И НА 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ВЫШЕНИЕ ЛОЯЛЬНОСТИ ВСЕХ ЗВЕНЬЕВ В ЦЕПИ ПРОДАЖ: ДИСТРИБЬЮТОР, РИЕТЙЛЕР, КОНСЬЮ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БОТА В ЛЕГАЛЬНОМ, ЭТИЧНОМ И ПРАВОВОМ ПОЛ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 СОГЛАСОВАННЫХ, С РИТЕЙЛОМ И ДИСТРИБЬЮТОРАМИ,  СТАНДА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ХОРОШИЕ 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0920" y="692280"/>
            <a:ext cx="8569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ПТИМИЗАЦИЯ БИЗНЕС ПРОЦЕССОВ СМОЖЕТ ЗНАЧИТЕЛЬНО ПОВЫСИТЬ РЕЗУЛЬТАТЫ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ЕРТВЫМИ БУДУТ ТЕ КОМПАНИИ, КОТОРЫЕ НЕ БУДУТ СЛЕДОВАТЬ ПРОСТОЙ ЛОГИКЕ, А БУДУТ СТРЕМИТЬСЯ К ГЛОБАЛЬНЫМ ПОКАЗАТЕЛЯМ И К САМОРЕАЛИЗАЦИИ В УЩЕРБ РЕЗУЛЬТА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СТИ СМОГУТ ТОЛЬКО УМНЫЕ И ЗНАЮЩИЕ О ТОМ, ЧТО ВЫПОЛНЕНИЕ ПЛАНА ПРОДАЖ, ЭТО ПРОДАЖА ПОТРЕБИТЕЛЮ, А НЕ ОТГРУЗКА ДИСТРИБЬЮТ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ОЗНИЦА БУДЕТ ДОГОВАРИВАТЬСЯ С ТЕМИ, КТО БУДЕТ ГОТОВ К Э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859280" y="3573360"/>
            <a:ext cx="4105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5. МНОГИЕ КОНКУРЕНТЫ ОСТАВЯТ СВОИ ПОЗИЦИИ БЕЗ БОРЬ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6. ПЕРЕРАСПЕРЕДЕЛЕНИЕ ЗАТРАТ НА ОПЛАТУ ТРУДА ПЕРСОНАЛА БУДЕТ РЕШЕНО ЗА СЧЕТ «УБИЙСТВА ХРОМЫХ УТОК» И АУТСОРСИН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7. МЕДАЛИ И НАГРАДЫ ЛУЧШЕ ВСЕГО ОСТАВИТЬ НА ПОТОМ, А СЕЙЧАС МОЖНО ПРОСТО РАБОТАТЬ, ЗАСУЧИВ РУК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Vinni_Puh sm print.avi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1:14:13Z</dcterms:created>
  <dc:creator>Sergey</dc:creator>
  <dc:description/>
  <dc:language>en-US</dc:language>
  <cp:lastModifiedBy>Крячок</cp:lastModifiedBy>
  <dcterms:modified xsi:type="dcterms:W3CDTF">2009-02-12T09:36:55Z</dcterms:modified>
  <cp:revision>23</cp:revision>
  <dc:subject/>
  <dc:title>«Диагноз и рецепты  для скорее живого,  чем мертвого пациента: маркетинг ТВ и нонТВ формата 2008/2009 годы» </dc:title>
</cp:coreProperties>
</file>