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B15-2D53-44B9-AC21-A37F6DDB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1D1-04BC-43C6-8FA1-059EEDEE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8DC-2989-4589-9633-5DD2E482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FBA-2C1C-464C-9105-2FC122D9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19B-E46E-48EB-9B44-5CB5768B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8BC-87FF-41CE-9884-7BA714D6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521-1DD8-4887-BF63-513A7D15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17E-CEB1-4C81-9F1B-08FC0881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F65-5300-4AF3-BDB9-24BF6DBB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EBC-594F-4A5E-8832-1D3A1BF0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8A8-DF8F-4972-9EB6-6AF5B561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7C7-7B79-4EEE-AA17-4155F32A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6F2B-92EB-427A-A996-228E56CA3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923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«Изменение финансового климата как причина   обострений хронических заболеваний коммерческих организаций.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Симптомы, лечение и профилактика»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лександр Мельник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иректор по коммерческим операциям в Украине, Корпорация «АРТЕРИУ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16000" y="2708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 нужен ли вам маркетинг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068720" y="1773360"/>
            <a:ext cx="3886200" cy="4860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Бизнес модель определяет организационную структу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341360"/>
            <a:ext cx="2592360" cy="170964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1709640"/>
              <a:gd name="textAreaBottom" fmla="*/ 1710000 h 17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зицио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1341360"/>
            <a:ext cx="2519640" cy="1728720"/>
          </a:xfrm>
          <a:custGeom>
            <a:avLst/>
            <a:gdLst>
              <a:gd name="textAreaLeft" fmla="*/ 0 w 2519640"/>
              <a:gd name="textAreaRight" fmla="*/ 2520000 w 251964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1341360"/>
            <a:ext cx="2519280" cy="172872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5080" y="1339920"/>
            <a:ext cx="2519640" cy="1728720"/>
          </a:xfrm>
          <a:custGeom>
            <a:avLst/>
            <a:gdLst>
              <a:gd name="textAreaLeft" fmla="*/ 0 w 2519640"/>
              <a:gd name="textAreaRight" fmla="*/ 2520000 w 251964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лан 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3332160"/>
            <a:ext cx="18716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Дифференци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Определение одной уникальной характеристики продукта, являющуюся преимуществом и влияющая на вы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3359160"/>
            <a:ext cx="22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3284640"/>
            <a:ext cx="20876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Определение источников роста, основываясь на дифференцирующем свой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ого и как мы должны атаковать, для получения новых пац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3284640"/>
            <a:ext cx="201600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пределение видов активности для воплощения страте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носит ли каждое тактическое действие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фференцирующую иде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15280" y="3284640"/>
            <a:ext cx="208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юджетирование и планирование промо акти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280" y="3888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лючевые маркетинговые бизнес процес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6000" y="5013360"/>
            <a:ext cx="15825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ецепты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268280"/>
            <a:ext cx="8280360" cy="39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Сегментация и таргет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румент для определения точного кол-ва ресурсов/МП необходимых для покрытия кли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эффективности работы внешне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точности планирования прод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фференциация подходов к продвижению/оптимизация маркетинговых зат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альное распределение визитов/времени 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236000" y="5013360"/>
            <a:ext cx="15825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егментация и тарг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556160" cy="4694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236000" y="5013360"/>
            <a:ext cx="15825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ецепты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27944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2. “Target cos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нозирование стоимости прироста от каждой составляющей маркетинг ми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выбрать наиболее прибыльные виды промо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е управление рискам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plan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36000" y="5013360"/>
            <a:ext cx="15825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arget c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55640" y="1201680"/>
          <a:ext cx="8209080" cy="40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01680"/>
                    <a:ext cx="82090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84360" y="5229360"/>
            <a:ext cx="381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case 1428k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case1690k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sales 262k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22936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vest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53360" y="28069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, 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49417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236000" y="5013360"/>
            <a:ext cx="15825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равильное выведение продукта на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e-launch and launch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ачала создать спрос, потом выводить 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изация потенциала продаж проду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хует логистические и дистрибуционные ри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ецепты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236000" y="5013360"/>
            <a:ext cx="15825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duct la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1440" y="1600200"/>
          <a:ext cx="8134200" cy="40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600200"/>
                    <a:ext cx="813420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236000" y="5013360"/>
            <a:ext cx="15825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89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имущество фарма маркетинга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личие от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MC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16360" y="328464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9640" y="170028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ли у человека органы чувств для определения «качества» лекарственного препарата и его выб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Эпоха пере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844640"/>
            <a:ext cx="8964720" cy="1370160"/>
          </a:xfrm>
          <a:prstGeom prst="rightArrow">
            <a:avLst>
              <a:gd name="adj1" fmla="val 81926"/>
              <a:gd name="adj2" fmla="val 51404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520" y="2276640"/>
            <a:ext cx="27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роизводственная эпо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40160" y="2347920"/>
            <a:ext cx="28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Финансовая эпо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2203560"/>
            <a:ext cx="22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Эпоха 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305160"/>
            <a:ext cx="21607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вичен проду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ынок монополизиров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купатель имеет ограниченный выбор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уп к информации отсутствует либо огранич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2360" y="3224160"/>
            <a:ext cx="252072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ервичен потреби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громное кол-во производителей и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ограниченный доступ к информации (глобализац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3284640"/>
            <a:ext cx="295272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ньги становятся «продуктом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олигопо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выбор увелич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в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конкурентоспособность компаний зависит от доступности “дешевых денег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доступ к информации увеличивается с каждым дн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3284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3284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003320"/>
            <a:ext cx="172908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87840" y="981000"/>
            <a:ext cx="1820880" cy="1212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981000"/>
            <a:ext cx="18734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91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И все таки он существу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0920" y="1197000"/>
          <a:ext cx="8532720" cy="5376960"/>
        </p:xfrm>
        <a:graphic>
          <a:graphicData uri="http://schemas.openxmlformats.org/drawingml/2006/table">
            <a:tbl>
              <a:tblPr/>
              <a:tblGrid>
                <a:gridCol w="3348000"/>
                <a:gridCol w="1197000"/>
                <a:gridCol w="530280"/>
                <a:gridCol w="1225440"/>
                <a:gridCol w="504720"/>
                <a:gridCol w="1168560"/>
                <a:gridCol w="55872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 врачи- 17 специальностей амбулаторный сегм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0711Uk Киев or Донецк, Харь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0804Uk Киев or Донецк, Харь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0811Uk Киев or Донецк, Харь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00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t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000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t 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00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t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ОРАТАДИН (R06A X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РИУС (R06A X2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ПРАСТИН (R06A C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ИАЗОЛИН (R06A X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АРИТИН (R06A X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ЕТРИН (R06A E0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ОРАНО (R06A X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ЛЕРОН (R06A E0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ЕНКАРОЛ (R06A X2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АВЕГИЛ (R06A A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ЕКСОФАСТ (R06A X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ОДАК (R06A E0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ОРИЗАН (R01A C09,R06A X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ЛФАСТ (R06A X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ИМЕДРОЛ (R06A A0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ЕТОТИФЕН (R06A X1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МЕРТИЛ (R06A E0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92360" y="270828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ужно только уметь пользоваться возможностям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Где находится Ваша комп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662200"/>
            <a:ext cx="2951280" cy="40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поха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окус на продук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нтрация на «качестве», критерии которого определяется самостоя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&amp;D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взаимодействует с маркетингом, либо диктует маркетингу продуктовую стратег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движение=прода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слеживаются прода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1080" y="2637000"/>
            <a:ext cx="287964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поха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окус на прибыли от продукта/краткосрочном финансовом результа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инансовая функция диктует «стратеги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лиентом считается дистрибьютор и/или роз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оль маркетинга и продаж равнознач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слеживаются продажи+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7640" y="2637000"/>
            <a:ext cx="2627280" cy="40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поха 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окус на потребите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ркетинг – ключевая функция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&amp;D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сно взаимодействует с маркетинг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дажи как функция -производная от маркетин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слеживается рыночные потреб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451640" y="1125360"/>
            <a:ext cx="1190880" cy="136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6200" y="1197000"/>
            <a:ext cx="110016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32000" y="1730520"/>
            <a:ext cx="6408720" cy="904680"/>
          </a:xfrm>
          <a:prstGeom prst="rightArrow">
            <a:avLst>
              <a:gd name="adj1" fmla="val 81926"/>
              <a:gd name="adj2" fmla="val 556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1989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проду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198900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потреб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068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4720" y="26370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6370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волюция коммерческой организации</a:t>
            </a:r>
            <a:br>
              <a:rPr sz="32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еремещение акцентов в ключевых компетенция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процессе развития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11280" y="1700280"/>
            <a:ext cx="5832360" cy="4465440"/>
            <a:chOff x="611280" y="1700280"/>
            <a:chExt cx="5832360" cy="4465440"/>
          </a:xfrm>
        </p:grpSpPr>
        <p:sp>
          <p:nvSpPr>
            <p:cNvPr id="69" name=""/>
            <p:cNvSpPr/>
            <p:nvPr/>
          </p:nvSpPr>
          <p:spPr>
            <a:xfrm rot="16200000">
              <a:off x="-67680" y="3105000"/>
              <a:ext cx="4465440" cy="1656000"/>
            </a:xfrm>
            <a:prstGeom prst="rightArrow">
              <a:avLst>
                <a:gd name="adj1" fmla="val 81926"/>
                <a:gd name="adj2" fmla="val 21185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46200" y="5222880"/>
              <a:ext cx="124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родаж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81400" y="47242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81400" y="3284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48000" y="3716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финан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08320" y="2486160"/>
              <a:ext cx="15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маркетин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7960" y="50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49400" y="36925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49400" y="2421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6200000">
              <a:off x="-104400" y="37843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рем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03640" y="5084640"/>
              <a:ext cx="3240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Первичен сб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Фокус на генерировании дене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3640" y="3357720"/>
              <a:ext cx="295128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Оптимизация расход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Фокус на краткосрочных финансовых результа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Пренебрежение долгосрочными возможностя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03640" y="1844640"/>
              <a:ext cx="3167280" cy="14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Создание долгосрочной стратегии на основе позиционир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Фокус на интеграции стратегии в каждое тактическое действие компан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06560" y="4365720"/>
              <a:ext cx="486000" cy="647640"/>
            </a:xfrm>
            <a:prstGeom prst="upArrow">
              <a:avLst>
                <a:gd name="adj1" fmla="val 50000"/>
                <a:gd name="adj2" fmla="val 3331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06560" y="2925720"/>
              <a:ext cx="486000" cy="647640"/>
            </a:xfrm>
            <a:prstGeom prst="upArrow">
              <a:avLst>
                <a:gd name="adj1" fmla="val 50000"/>
                <a:gd name="adj2" fmla="val 3331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3640" y="3213000"/>
            <a:ext cx="2406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то такое маркетин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етинг снабжает отдел продаж промо материалами и сувени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етинг это все что не связано с отделом продаж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еренции, реклама в мед. прессе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атьи, акции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етинг это подготовка бизнес/маркетинг плана и плана прод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етинг это анализ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етинг это «креати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етинг это «событ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Time Square in 11 degree by heymynameispaul."/>
          <p:cNvPicPr/>
          <p:nvPr/>
        </p:nvPicPr>
        <p:blipFill>
          <a:blip r:embed="rId1"/>
          <a:stretch/>
        </p:blipFill>
        <p:spPr>
          <a:xfrm>
            <a:off x="4356000" y="3429000"/>
            <a:ext cx="45370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то такое маркетин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ка которая формируется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ется не в университетах, а в «полях»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Маркетинг – это наука о том, как генерировать спрос используя 4 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n Duf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рмацевтический маркетинг – это наука о том как генерировать спрос на лекарственные препараты используя 5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48360" y="1557360"/>
            <a:ext cx="1943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6381720"/>
            <a:ext cx="52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цепция «айсберга», Ричард Чернявски, Майкл Мело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84320" y="1341360"/>
            <a:ext cx="3416400" cy="496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35280" y="1916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58972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72360" y="4005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8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14097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16720" y="508464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Конструкция» ключевого со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5080" y="198900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онесение ключевого со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48428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типа коммерческой лог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ендинг – дифференц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ить, то чего еще нет на рын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me too”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ить тоже самое но дешев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рай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Продаются же 18 препаратов, давайте выведем 19-й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дел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рендинг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s.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e too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»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G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1520" y="3500280"/>
            <a:ext cx="1936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дел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рендинг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s.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e too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»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G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ендинг – построение бр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 на создании с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спроса путем донесения преимуществ/отличий и выгод до 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осуществляется в «главных конкурентных» зонах: эффективность, безопасность, комплае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рическая – перераспределение уже созданного с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 на перераспределении с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конкурентная зона: ц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236000" y="4149720"/>
            <a:ext cx="16142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3:16:11Z</dcterms:created>
  <dc:creator>Melnik</dc:creator>
  <dc:description/>
  <dc:language>en-US</dc:language>
  <cp:lastModifiedBy>Melnik</cp:lastModifiedBy>
  <dcterms:modified xsi:type="dcterms:W3CDTF">2009-02-17T17:37:01Z</dcterms:modified>
  <cp:revision>31</cp:revision>
  <dc:subject/>
  <dc:title>«Изменение финансового климата как причина   обострений хронических заболеваний»</dc:title>
</cp:coreProperties>
</file>